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02F-5A94-4095-80DA-4725D533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5FE-87C2-408C-8E73-A40D4144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429-6492-4222-899D-9BA49B7D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098-FF0B-48DB-A0AD-F1448D72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CFFB-90F0-4D89-9E6C-26C2FBBC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B62-F443-47A9-AD57-87635319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19C-622B-401F-AD8C-33B88293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A885-2A75-4FED-AB6A-C9E82C84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13FD-C0ED-44BD-802B-F661B03F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8F06-076D-4F39-B854-75692D2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17A4-12A8-4994-B5F8-A279204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991-9101-4A1A-9C14-DE15E596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6551-FFD3-4B03-9840-8FD8239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86E-1BCF-4A6E-A210-AEB8F74E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68C4-BAF5-418A-B1FD-0690D185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148E-B55E-4EB9-B1C8-5F3E9BAA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B03-22A9-4412-BE54-68603270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B84-4C03-4996-B283-3BDE0C6C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BF8-FD37-4FC0-9FF0-2E5DA485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1A3-1565-4490-AE9C-21908E4A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9E9-3D5A-4D3A-B241-BEF98DE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C97-2E54-4480-89FD-19603B9C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469-44D3-402E-B1FE-CD46E4F4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C1B-49C0-4A2C-9100-D2DE2CB4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0637-3AE2-4B96-BDFF-AA6092C2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custGeom>
              <a:avLst/>
              <a:gdLst/>
              <a:ahLst/>
              <a:rect l="l" t="t" r="r" b="b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custGeom>
              <a:avLst/>
              <a:gdLst/>
              <a:ahLst/>
              <a:rect l="l" t="t" r="r" b="b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lnTo>
                    <a:pt x="483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custGeom>
              <a:avLst/>
              <a:gdLst/>
              <a:ahLst/>
              <a:rect l="l" t="t" r="r" b="b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lnTo>
                    <a:pt x="9819" y="-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custGeom>
              <a:avLst/>
              <a:gdLst/>
              <a:ahLst/>
              <a:rect l="l" t="t" r="r" b="b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lnTo>
                    <a:pt x="13050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custGeom>
              <a:avLst/>
              <a:gdLst/>
              <a:ahLst/>
              <a:rect l="l" t="t" r="r" b="b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lnTo>
                    <a:pt x="4833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custGeom>
              <a:avLst/>
              <a:gdLst/>
              <a:ahLst/>
              <a:rect l="l" t="t" r="r" b="b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lnTo>
                    <a:pt x="98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custGeom>
              <a:avLst/>
              <a:gdLst/>
              <a:ahLst/>
              <a:rect l="l" t="t" r="r" b="b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lnTo>
                    <a:pt x="1304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5F5-FD37-4DC1-AC7D-B7F907836C5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209680" y="569880"/>
            <a:ext cx="579132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 Types of Boot Verb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 to I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O to U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 to 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E to IE verbs: 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ensar, Querer, Empezar, Preferir, Cerra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verb will fit in context and write its correct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tienda ______________ a las cin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ú __________________la tar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 _________________ir de compr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sotros ______________ el verano más que el invierno porque hace mejor tiemp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 to Ue: Poder, Almorzar, Costar, Dormir, Encontrar, Volv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la _____________ tar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los _______________ a sus amigos en el centro comer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amiseta ______________ 15 dól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s jeans ______________ 30 eur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ervir and pedir: E to I Boot Verb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95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v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 mesero _________________ la ce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ú _____________ el almuerzo en un restaura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sotros ______________ la mes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81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d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los ___________ el menú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 padre ___________ el pollo con arroz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 ______________ una ensalada y una sop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¿Qué __________ vosotro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SPS</cp:lastModifiedBy>
  <dcterms:modified xsi:type="dcterms:W3CDTF">2014-01-08T17:42:27Z</dcterms:modified>
  <cp:revision>7</cp:revision>
  <dc:subject/>
  <dc:title>No Slide Title</dc:title>
</cp:coreProperties>
</file>